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EF9-5010-4AC1-8580-FE574337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687-C6E7-474A-99A7-6854B0FB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CD5-136C-4C71-81DC-3674FC94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CCE-EC11-415F-B9E6-EF8F821F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CBB5-4807-4CAF-8046-2CA2D51B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2A0D-FA75-4476-874B-03FDE6F4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97E0-DEF1-4ED2-A19D-BE294F1F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A430-D533-45BF-905B-FB481EA5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A178-EDD3-4726-AD7C-0554BF18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D801-8D3F-4A89-A1C6-D9E91F87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9A98-23DE-4129-9792-C0C09B22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9C2-CDD8-4760-8520-A5E0FBE8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43D2-0DA5-4ADF-B828-A270569B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A24A-165B-4396-A091-1F83F00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38FA-1537-4AEB-88FF-08AFB9CB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8F45-DE94-415F-B0B3-BE67DE5F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9569-4C59-499C-9151-6C185F5E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4FB42-BC21-4D9E-81EF-F47FDEC0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8F298-7733-4BA9-9CE9-31FDC89B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9A5D6-FFA7-4EFB-BA4D-425D5B95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FB425-5069-4903-A0E6-A0297A9B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4D722-AA02-4D63-BB20-2357CFF6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A96-3442-4A4A-AB46-41C9BCD6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9ED72-6DF8-44D3-96ED-0183B60A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83451-CC68-4898-8A1F-1B62C7E1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BE829-B879-45A8-AC2D-18793017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21CD6-890E-4DD9-99E9-26183AB5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28FA8-5CC3-4312-8F2D-A071B01F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E7974-8E5C-4F80-AB72-31E13390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21FE2-E124-4298-BE96-E2BDCFCF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F524-19F0-42A1-BB48-B67205A4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F3E8-363A-44D0-AF9E-5E804A16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AA85-C304-4944-A893-6D5AB47A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C73-FFBA-42C4-9522-553773A8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4104E-A2BF-4A74-B7D9-6272A56A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D5F5-8865-4D5C-95DC-461F601A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4754-1296-42A7-9EF4-E71F8F7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1642-53AC-44A6-8686-F2BB5BB9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2A83-47C4-4E66-B067-FE0D1A08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4FF1-006B-4077-81CF-61B74272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7D48-81FD-4EF7-ABDC-601F1782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DE47-E6B3-4996-AC27-4721B03A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B551-8373-4383-A4F3-ACF30C96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EE15E6-5A42-4744-9CFC-8ED5166B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5B7-1DBF-49D8-9863-00B452BC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5DEE5-FD23-4B87-BEDC-35895F3E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50A23-1AFC-4B9C-8360-59B8470E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536BE-902C-4A28-BF41-98AFA267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A4A93-6E3D-4C37-95B1-A08C3E03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CD1B1-B849-4F84-A7BE-71ACDE38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3B53B-94C3-4DC3-877A-127AF656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549A8-E448-433B-89A4-901F7AB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F115F3-BBB5-42B4-93D6-685C86A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99F36-62A9-437F-9BE3-2F7A3EE1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8CFB7-5890-4800-8D8F-2F180BB4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A1A-DADF-4F1F-9AD4-87ADF0ED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9A2B3-5EB1-408B-B6BE-FA8DD741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9E1B6-B991-4C43-9A6E-F5932B4E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F2FCD-73AA-48CF-A5FF-89F3DC5E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0F3F9-5709-4939-BD7E-1CC47CBE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93D05-4F9A-4BF3-8A4E-7BA61B70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8B725E-9D28-4A40-B416-9A9843F7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B8020-E646-4E7F-A06F-F0C5E696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A6589-403E-49A3-B9A7-D0AF2860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B8B13-67B1-4FCC-BE91-A52E2840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50734-CB38-46A8-AF4E-204F9A8D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4FC-75EA-47A5-9B70-9597A6C3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D32A5-75F6-4716-B98E-8B2B4BA2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928D8-9BAF-4648-A402-A833E072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82131-7520-499D-9813-8B59493B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CEE09-62D7-4CED-9F04-1A37CAB2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B73F2-B690-49F7-8BA1-E6BFFF74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E28369-CACA-48C9-ADA2-B03777A1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2BC1CF-492E-4607-82EA-2BD794F3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6CD8B-519C-426B-B3CF-AFE8D938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EFDD8-4F63-44E3-A5A5-C88A81E5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88C8A-8C5C-4F96-9C3F-0196CAE6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3DE-937C-4DB7-9509-05C041E8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7D58A-88AC-40E9-8A7B-93E23F5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548A1-AEDF-4057-8E2B-FBA72A32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41B40-E831-42E6-B218-C72696AB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D63A1-E799-491B-87E0-1E98CB27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2D4F3-8336-44EC-A255-C47ADB19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3EA-DF17-4C84-A739-55C4C889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99F5-B280-41B9-96D8-040AF0FA8C74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8D3D-28BD-4E7D-BE09-0972947D407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6757-1BAA-4C79-AD0A-071A8E443A6E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94FB-16F9-427C-AFF5-D857B84AE516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3DEB-D6D7-47B9-A5BD-39D2B1B8B582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216A-0522-458E-96C0-2ECF0CFD0D32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0638-DEEA-40F9-9F41-A869E5913E50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3200" y="3212640"/>
            <a:ext cx="8283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pt-BR" sz="2400" spc="-1" strike="noStrike">
                <a:solidFill>
                  <a:srgbClr val="000000"/>
                </a:solidFill>
                <a:latin typeface="Aharoni"/>
                <a:ea typeface="Aharoni"/>
              </a:rPr>
              <a:t>REUNIÃO DE PAIS/RESPONSÁVEIS DOS(AS) ALUNOS(AS) DOS CURSOS TÉCNICOS INTEGRADOS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haroni"/>
                <a:ea typeface="Aharoni"/>
              </a:rPr>
              <a:t>SEMESTRE LETIVO </a:t>
            </a:r>
            <a:r>
              <a:rPr b="1" lang="pt-BR" sz="3200" spc="-1" strike="noStrike">
                <a:solidFill>
                  <a:srgbClr val="000000"/>
                </a:solidFill>
                <a:latin typeface="Aharoni"/>
                <a:ea typeface="Aharoni"/>
              </a:rPr>
              <a:t>2023.1</a:t>
            </a:r>
            <a:br>
              <a:rPr sz="2400"/>
            </a:br>
            <a:endParaRPr b="0" lang="en-US" sz="32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7640" y="3213000"/>
            <a:ext cx="67741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UTA: ACOMPANHAMENTO ACADÊ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08/05/20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Imagem 3" descr=""/>
          <p:cNvPicPr/>
          <p:nvPr/>
        </p:nvPicPr>
        <p:blipFill>
          <a:blip r:embed="rId1"/>
          <a:stretch/>
        </p:blipFill>
        <p:spPr>
          <a:xfrm>
            <a:off x="5435640" y="260280"/>
            <a:ext cx="35337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tângulo 1"/>
          <p:cNvSpPr/>
          <p:nvPr/>
        </p:nvSpPr>
        <p:spPr>
          <a:xfrm>
            <a:off x="108000" y="1700280"/>
            <a:ext cx="86407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Moderar o uso de celular e tela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Estimular com reforços positivos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Cuidar do tripé comida, sono e atividade físic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onte: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Dicas de um pai neurocientista para lidar com os adolesc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ALGUMAS “DICAS”...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CONTATOS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rcRect l="28601" t="23346" r="17055" b="62249"/>
          <a:stretch/>
        </p:blipFill>
        <p:spPr>
          <a:xfrm>
            <a:off x="6084720" y="692280"/>
            <a:ext cx="2689560" cy="70164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6" descr=""/>
          <p:cNvPicPr/>
          <p:nvPr/>
        </p:nvPicPr>
        <p:blipFill>
          <a:blip r:embed="rId2"/>
          <a:srcRect l="29525" t="15000" r="20863" b="6601"/>
          <a:stretch/>
        </p:blipFill>
        <p:spPr>
          <a:xfrm>
            <a:off x="324000" y="1628640"/>
            <a:ext cx="8450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CONTATOS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rcRect l="28601" t="23346" r="17055" b="62249"/>
          <a:stretch/>
        </p:blipFill>
        <p:spPr>
          <a:xfrm>
            <a:off x="4716360" y="692280"/>
            <a:ext cx="4057920" cy="7016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2" descr=""/>
          <p:cNvPicPr/>
          <p:nvPr/>
        </p:nvPicPr>
        <p:blipFill>
          <a:blip r:embed="rId2"/>
          <a:srcRect l="30314" t="15000" r="20863" b="37400"/>
          <a:stretch/>
        </p:blipFill>
        <p:spPr>
          <a:xfrm>
            <a:off x="539640" y="1628640"/>
            <a:ext cx="806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e5b6f"/>
                </a:solidFill>
                <a:latin typeface="Bahnschrift Light Condensed"/>
              </a:rPr>
              <a:t>SISTEMÁTICA DE AVALIAÇÃO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55" name="Espaço Reservado para Conteúdo 4" descr=""/>
          <p:cNvPicPr/>
          <p:nvPr/>
        </p:nvPicPr>
        <p:blipFill>
          <a:blip r:embed="rId1"/>
          <a:srcRect l="37746" t="16667" r="16935" b="6190"/>
          <a:stretch/>
        </p:blipFill>
        <p:spPr>
          <a:xfrm>
            <a:off x="179280" y="836640"/>
            <a:ext cx="8713800" cy="5637240"/>
          </a:xfrm>
          <a:prstGeom prst="rect">
            <a:avLst/>
          </a:prstGeom>
          <a:ln w="0">
            <a:noFill/>
          </a:ln>
        </p:spPr>
      </p:pic>
      <p:cxnSp>
        <p:nvCxnSpPr>
          <p:cNvPr id="356" name="Conector de Seta Reta 6"/>
          <p:cNvCxnSpPr/>
          <p:nvPr/>
        </p:nvCxnSpPr>
        <p:spPr>
          <a:xfrm>
            <a:off x="456840" y="2491920"/>
            <a:ext cx="586440" cy="1080"/>
          </a:xfrm>
          <a:prstGeom prst="straightConnector1">
            <a:avLst/>
          </a:prstGeom>
          <a:ln w="3816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57" name="Conector de Seta Reta 8"/>
          <p:cNvCxnSpPr/>
          <p:nvPr/>
        </p:nvCxnSpPr>
        <p:spPr>
          <a:xfrm>
            <a:off x="1979280" y="1341000"/>
            <a:ext cx="1297800" cy="143640"/>
          </a:xfrm>
          <a:prstGeom prst="straightConnector1">
            <a:avLst/>
          </a:prstGeom>
          <a:ln w="28440">
            <a:solidFill>
              <a:srgbClr val="ea157a"/>
            </a:solidFill>
            <a:miter/>
            <a:tailEnd len="med" type="triangle" w="med"/>
          </a:ln>
        </p:spPr>
      </p:cxnSp>
      <p:sp>
        <p:nvSpPr>
          <p:cNvPr id="358" name="Chave Esquerda 10"/>
          <p:cNvSpPr/>
          <p:nvPr/>
        </p:nvSpPr>
        <p:spPr>
          <a:xfrm>
            <a:off x="457200" y="34290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Chave Direita 11"/>
          <p:cNvSpPr/>
          <p:nvPr/>
        </p:nvSpPr>
        <p:spPr>
          <a:xfrm>
            <a:off x="7924680" y="335772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Conector de Seta Reta 15"/>
          <p:cNvCxnSpPr/>
          <p:nvPr/>
        </p:nvCxnSpPr>
        <p:spPr>
          <a:xfrm>
            <a:off x="324000" y="5229000"/>
            <a:ext cx="427680" cy="108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42080"/>
          </a:xfrm>
          <a:prstGeom prst="rect">
            <a:avLst/>
          </a:prstGeom>
          <a:ln w="0">
            <a:noFill/>
          </a:ln>
        </p:spPr>
      </p:pic>
      <p:cxnSp>
        <p:nvCxnSpPr>
          <p:cNvPr id="363" name="Conector de seta reta 4"/>
          <p:cNvCxnSpPr/>
          <p:nvPr/>
        </p:nvCxnSpPr>
        <p:spPr>
          <a:xfrm>
            <a:off x="142560" y="3644640"/>
            <a:ext cx="864360" cy="108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64" name="Elipse 3"/>
          <p:cNvSpPr/>
          <p:nvPr/>
        </p:nvSpPr>
        <p:spPr>
          <a:xfrm>
            <a:off x="1042920" y="342252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569440" cy="5802480"/>
          </a:xfrm>
          <a:prstGeom prst="rect">
            <a:avLst/>
          </a:prstGeom>
          <a:ln w="0">
            <a:noFill/>
          </a:ln>
        </p:spPr>
      </p:pic>
      <p:cxnSp>
        <p:nvCxnSpPr>
          <p:cNvPr id="367" name="Conector de seta reta 4"/>
          <p:cNvCxnSpPr/>
          <p:nvPr/>
        </p:nvCxnSpPr>
        <p:spPr>
          <a:xfrm flipH="1">
            <a:off x="4426920" y="3573000"/>
            <a:ext cx="1369080" cy="108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68" name="Conector de seta reta 6"/>
          <p:cNvCxnSpPr/>
          <p:nvPr/>
        </p:nvCxnSpPr>
        <p:spPr>
          <a:xfrm flipH="1">
            <a:off x="7524000" y="4005000"/>
            <a:ext cx="9356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18440" cy="5875560"/>
          </a:xfrm>
          <a:prstGeom prst="rect">
            <a:avLst/>
          </a:prstGeom>
          <a:ln w="0">
            <a:noFill/>
          </a:ln>
        </p:spPr>
      </p:pic>
      <p:cxnSp>
        <p:nvCxnSpPr>
          <p:cNvPr id="371" name="Conector de seta reta 4"/>
          <p:cNvCxnSpPr/>
          <p:nvPr/>
        </p:nvCxnSpPr>
        <p:spPr>
          <a:xfrm>
            <a:off x="1692000" y="4005000"/>
            <a:ext cx="1151640" cy="144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569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e5b6f"/>
                </a:solidFill>
                <a:latin typeface="Bahnschrift Light Condensed"/>
              </a:rPr>
              <a:t>COMO ACOMPANHAR SEU FILHO, SUA FILHA ?</a:t>
            </a:r>
            <a:endParaRPr b="0" lang="en-US" sz="2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companhando se seu(sua) filho(a) realiza momentos de estudos, revisões, realiza as atividades e os trabalhos, frequenta e participa das aul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embre-se!: “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 adolescência é uma etapa "tanto de mais vulnerabilidade quanto potencialida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,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o jovem é um ser em trânsito entre o que já não é e o que ainda não é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7313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4e5b6f"/>
                </a:solidFill>
                <a:latin typeface="Arial"/>
              </a:rPr>
              <a:t>CALENDÁRIO TÉCNICO INTEGRADO  EM SEGURANÇA DO TRABALHO</a:t>
            </a:r>
            <a:endParaRPr b="0" lang="en-US" sz="27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77" name="Espaço Reservado para Conteúdo 4" descr=""/>
          <p:cNvPicPr/>
          <p:nvPr/>
        </p:nvPicPr>
        <p:blipFill>
          <a:blip r:embed="rId1"/>
          <a:srcRect l="21354" t="9810" r="21756" b="14761"/>
          <a:stretch/>
        </p:blipFill>
        <p:spPr>
          <a:xfrm>
            <a:off x="457200" y="1052640"/>
            <a:ext cx="8229600" cy="5256000"/>
          </a:xfrm>
          <a:prstGeom prst="rect">
            <a:avLst/>
          </a:prstGeom>
          <a:ln w="0">
            <a:noFill/>
          </a:ln>
        </p:spPr>
      </p:pic>
      <p:cxnSp>
        <p:nvCxnSpPr>
          <p:cNvPr id="378" name="Conector de Seta Reta 6"/>
          <p:cNvCxnSpPr/>
          <p:nvPr/>
        </p:nvCxnSpPr>
        <p:spPr>
          <a:xfrm>
            <a:off x="4284720" y="6237000"/>
            <a:ext cx="575280" cy="10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9" name="Conector de Seta Reta 8"/>
          <p:cNvCxnSpPr/>
          <p:nvPr/>
        </p:nvCxnSpPr>
        <p:spPr>
          <a:xfrm>
            <a:off x="4140000" y="5084280"/>
            <a:ext cx="7196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0" name="Conector de Seta Reta 9"/>
          <p:cNvCxnSpPr/>
          <p:nvPr/>
        </p:nvCxnSpPr>
        <p:spPr>
          <a:xfrm>
            <a:off x="3780000" y="5229000"/>
            <a:ext cx="721440" cy="1080"/>
          </a:xfrm>
          <a:prstGeom prst="straightConnector1">
            <a:avLst/>
          </a:prstGeom>
          <a:ln w="3816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81" name="Conector de Seta Reta 11"/>
          <p:cNvCxnSpPr/>
          <p:nvPr/>
        </p:nvCxnSpPr>
        <p:spPr>
          <a:xfrm>
            <a:off x="456840" y="5660640"/>
            <a:ext cx="586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2" name="Conector de Seta Reta 13"/>
          <p:cNvCxnSpPr/>
          <p:nvPr/>
        </p:nvCxnSpPr>
        <p:spPr>
          <a:xfrm>
            <a:off x="3995640" y="5621040"/>
            <a:ext cx="1440360" cy="108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0977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5b6f"/>
                </a:solidFill>
                <a:latin typeface="Arial"/>
              </a:rPr>
              <a:t>CALENDÁRIO INTEGRADOS </a:t>
            </a:r>
            <a:endParaRPr b="0" lang="en-US" sz="3000" spc="-1" strike="noStrike">
              <a:solidFill>
                <a:srgbClr val="4e5b6f"/>
              </a:solidFill>
              <a:latin typeface="Arial"/>
            </a:endParaRPr>
          </a:p>
        </p:txBody>
      </p:sp>
      <p:pic>
        <p:nvPicPr>
          <p:cNvPr id="384" name="Espaço Reservado para Conteúdo 4" descr=""/>
          <p:cNvPicPr/>
          <p:nvPr/>
        </p:nvPicPr>
        <p:blipFill>
          <a:blip r:embed="rId1"/>
          <a:srcRect l="22070" t="16667" r="21756" b="6190"/>
          <a:stretch/>
        </p:blipFill>
        <p:spPr>
          <a:xfrm>
            <a:off x="324000" y="1417680"/>
            <a:ext cx="7993080" cy="5165640"/>
          </a:xfrm>
          <a:prstGeom prst="rect">
            <a:avLst/>
          </a:prstGeom>
          <a:ln w="0">
            <a:noFill/>
          </a:ln>
        </p:spPr>
      </p:pic>
      <p:cxnSp>
        <p:nvCxnSpPr>
          <p:cNvPr id="385" name="Conector de Seta Reta 6"/>
          <p:cNvCxnSpPr/>
          <p:nvPr/>
        </p:nvCxnSpPr>
        <p:spPr>
          <a:xfrm flipH="1">
            <a:off x="6084360" y="2636640"/>
            <a:ext cx="504000" cy="1080"/>
          </a:xfrm>
          <a:prstGeom prst="straightConnector1">
            <a:avLst/>
          </a:prstGeom>
          <a:ln w="5724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86" name="Conector de Seta Reta 8"/>
          <p:cNvCxnSpPr/>
          <p:nvPr/>
        </p:nvCxnSpPr>
        <p:spPr>
          <a:xfrm flipH="1">
            <a:off x="2483640" y="6165360"/>
            <a:ext cx="793080" cy="1080"/>
          </a:xfrm>
          <a:prstGeom prst="straightConnector1">
            <a:avLst/>
          </a:prstGeom>
          <a:ln w="28440">
            <a:solidFill>
              <a:srgbClr val="69d311"/>
            </a:solidFill>
            <a:miter/>
            <a:tailEnd len="med" type="triangle" w="med"/>
          </a:ln>
        </p:spPr>
      </p:cxnSp>
      <p:cxnSp>
        <p:nvCxnSpPr>
          <p:cNvPr id="387" name="Conector de Seta Reta 10"/>
          <p:cNvCxnSpPr/>
          <p:nvPr/>
        </p:nvCxnSpPr>
        <p:spPr>
          <a:xfrm flipH="1">
            <a:off x="2699640" y="6021000"/>
            <a:ext cx="86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7T20:47:46Z</dcterms:created>
  <dc:creator>Ediliene</dc:creator>
  <dc:description/>
  <dc:language>en-US</dc:language>
  <cp:lastModifiedBy>Reginaldo</cp:lastModifiedBy>
  <dcterms:modified xsi:type="dcterms:W3CDTF">2023-07-17T17:01:27Z</dcterms:modified>
  <cp:revision>55</cp:revision>
  <dc:subject/>
  <dc:title>Apresentação do PowerPoint</dc:title>
</cp:coreProperties>
</file>